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E0CC-048D-4C5B-BF8A-1AFE42F6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B9D-2F94-41A5-8553-9B64A20B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DA3F-620A-4F21-A4BB-6D932568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CAF-DA39-481F-A379-F9AB765D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2DF6-1410-4610-8B78-20C335FF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3546-E419-4D7A-A3B2-9C890F78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6DDE-EFDD-44C7-BBEF-417D2D0F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520D-0ACB-4748-A7AF-511446CC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CF23-A3FC-4C83-85AD-138DC8AD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73CF-3809-4B66-B3A5-D014A4E6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D858-AE94-4BF5-BF60-4CA394A8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FB61-EE4D-4F12-9A5E-53EB43CC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3BC6-F708-4EAE-847F-24B0B3E4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0538-A49A-4D6A-870C-702A377B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C198-87C6-429E-B407-BD8B4358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8C50-4CBE-4044-948F-53338396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BD10-FF85-4B3B-B5F7-ADCF73D2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6CB-F2D5-417A-9954-C5CD4A09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BD8D-1A1F-4A85-93AA-6CF3BEA6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913-F8D5-47D2-BA7C-715D23AB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907A-C3AF-47D9-A47F-4823020D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0280-AFA7-4149-9B72-69D2033E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6672-4082-4B99-B1D6-9FDCE65D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026B-F028-4CC8-9E6F-6F3FFD3C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7B1A-0C63-4ABD-9233-7D1CBFB6DD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8DF7-A5BA-4D8B-B05D-293901058B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vid.bell@castlecollege.ac.uk" TargetMode="External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TEC NAT – UNIT 27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TWORKING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SI MODE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44197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358128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 Leade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e B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4568"/>
                </a:solidFill>
                <a:uFillTx/>
                <a:latin typeface="Arial"/>
                <a:hlinkClick r:id="rId1"/>
              </a:rPr>
              <a:t>david.bell@castlecollege.ac.u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ATA LINK LAYER 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ganisation of data bits into frame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C Addresses (NICs) – identify de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ICs, Switches, WAN Technolo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eginning and end of the data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ddress of the 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ddress of the rece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of the data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HYSICAL LAYER 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ts / receives data bits as electrical pul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physical link between communicating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s network top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ssion media – cabling / broadcasting / wirel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ms – encoding binary bit of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ical or optical (fibre optic) signa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CP / I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 communication protocol of the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SSION CONTROL PROTOC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s assembly of messages / files into smaller packets. Reassembles packets when received     (OSI layer 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PROTOC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les the address part of the pac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es reaches correct destination (OSI layer 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 / IP (4 Layer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68944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 / IP Protoc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4360" y="1413000"/>
          <a:ext cx="7772400" cy="44798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OSI LAY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CP LAY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ROTOC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pplic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pplic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FT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    Telnet    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HTT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OP3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SMT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  TFTP   HTT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res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Sess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C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UD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Networ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Inter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IP           ICM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   OSPF    EIGRP BGP        RI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HSRP  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HCP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ata Lin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ata Flow or Network Access lay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RA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hysic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OSI 7 LAYER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pen Systems Inter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standard description or “reference model” for how messages should be transmitted between any two points in a telecommunication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ny two computers can communicate when connected regardless of underlying architect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457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OSI 7 Layer Mode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110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2952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23623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19810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ation l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26668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ss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342900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port l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419112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49528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ta Link l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571500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ysical l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17524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24382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388620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46483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54100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6680" y="1371600"/>
            <a:ext cx="2806560" cy="2437920"/>
            <a:chOff x="1066680" y="1371600"/>
            <a:chExt cx="2806560" cy="2437920"/>
          </a:xfrm>
        </p:grpSpPr>
        <p:sp>
          <p:nvSpPr>
            <p:cNvPr id="114" name=""/>
            <p:cNvSpPr/>
            <p:nvPr/>
          </p:nvSpPr>
          <p:spPr>
            <a:xfrm>
              <a:off x="3543120" y="1371600"/>
              <a:ext cx="330120" cy="2437920"/>
            </a:xfrm>
            <a:custGeom>
              <a:avLst/>
              <a:gdLst>
                <a:gd name="textAreaLeft" fmla="*/ 210960 w 330120"/>
                <a:gd name="textAreaRight" fmla="*/ 330480 w 330120"/>
                <a:gd name="textAreaTop" fmla="*/ 63360 h 2437920"/>
                <a:gd name="textAreaBottom" fmla="*/ 2374560 h 243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66680" y="1795680"/>
              <a:ext cx="2328480" cy="119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er services, application, activit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14400" y="4267080"/>
            <a:ext cx="2971440" cy="1752840"/>
            <a:chOff x="914400" y="4267080"/>
            <a:chExt cx="2971440" cy="1752840"/>
          </a:xfrm>
        </p:grpSpPr>
        <p:sp>
          <p:nvSpPr>
            <p:cNvPr id="117" name=""/>
            <p:cNvSpPr/>
            <p:nvPr/>
          </p:nvSpPr>
          <p:spPr>
            <a:xfrm>
              <a:off x="3537000" y="4267080"/>
              <a:ext cx="348840" cy="1752840"/>
            </a:xfrm>
            <a:custGeom>
              <a:avLst/>
              <a:gdLst>
                <a:gd name="textAreaLeft" fmla="*/ 222840 w 348840"/>
                <a:gd name="textAreaRight" fmla="*/ 349200 w 34884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4419720"/>
              <a:ext cx="2466000" cy="1557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ual data transmission</a:t>
              </a:r>
              <a:br>
                <a:rPr sz="2400"/>
              </a:b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ommunications sub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OSI SEVEN LAYER MODEL</a:t>
            </a:r>
            <a:br>
              <a:rPr sz="24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PER 4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sage passing – from computer 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3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sage passing – through hos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to an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parate specific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PPLICATION LAYER 7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s with applications for communication purpo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s identity &amp; availability of communications part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s sufficient resources avail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the communication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peration between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ESENTATION LAYER 6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s data to the user in understandable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conversion functions for application layer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representation – graphic form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 representation – text / ASC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mpres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encry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ESSION LAYER 5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s connections between mach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s whether all data transmitted / recei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s logical connection for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s data received – retransmits if necess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nnects on premature ter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ases logical connection on comp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RANSPORT LAYER 4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ides upon network to use depending on data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ow control – enough space to send/receive mess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ltiplexing – combines messages to same conn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cketing – breaks larger into smaller pie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re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ewalls, Security &amp; Priorit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TWORK LAYER 3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uting and addressing functions – correct dest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eives incoming packets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P – IP addr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uting – decides what route to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warding – sends on packets to other h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rols communication subnet – layers 1-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Administrator</cp:lastModifiedBy>
  <dcterms:modified xsi:type="dcterms:W3CDTF">2008-12-16T14:05:01Z</dcterms:modified>
  <cp:revision>82</cp:revision>
  <dc:subject/>
  <dc:title>AVCE – UNIT 14 Project Management</dc:title>
</cp:coreProperties>
</file>