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FC8-B291-47E4-A7B5-99C93519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888-306C-48DA-8231-94492A02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F32-B362-4A98-9BAA-4DE63545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0FB-5C29-410C-932D-D60F154F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5300-8327-4F87-936B-4BCD4504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6370-9A3E-4EE4-B0A5-230D850D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D4A3-D42F-4CA3-9FC8-EF70B0FE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8B8D-4FEF-4B54-AADB-2F26D78F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F6E1-F84D-4B1B-8D96-2726DECE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13D8-A516-41DB-BBE9-17851F5B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527E-45E8-40D3-BDB8-1E2BBF4A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359-D348-4B35-A8D2-45E15E4D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1B7D-6397-49ED-B49F-4D50EF55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2A23-7038-4793-BBFC-C37A2534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6F0D-06B9-4ABF-836E-6CD11E97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A7CB-ED51-4FAD-9FA4-21424C48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67FF-14C1-4999-82B6-ACDB8C06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265-5FD0-43E3-A511-7E28EEB2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869-CDB9-4B8F-94A2-AE04864D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BBC-A5A3-4FB4-9DA4-F36C9827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0FF-0A66-43F6-B571-620E1E5F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D04-439F-4054-8C27-BB05FD56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DEA-B3F5-4D58-BE77-DCDA8CC2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C9C-7891-463F-A749-6DA0E63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BBA0-147D-4825-A89C-D49E03739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8280-EFBB-48C2-AC63-F1A011B87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bell@castlecollege.ac.uk" TargetMode="Externa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TEC NAT – UNIT 27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SI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5812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 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A LINK LAYER 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ganisation of data bits into fram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C Addresses (NICs) – identify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Cs, Switches, WAN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ginning and end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LAYER 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ts / receives data bits as electrical pul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physical link between communicat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network top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media – cabling / broadcasting / wire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ms – encoding binary bit of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 or optical (fibre optic) signa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CP / I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communication protocol of the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CONTROL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assembly of messages / files into smaller packets. Reassembles packets when received     (OSI layer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s the address part of the pa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s reaches correct destination (OSI layer 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(4 Layer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6894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Protoc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1413000"/>
          <a:ext cx="7772400" cy="4479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OSI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OTOC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 Telnet  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T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OP3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M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TFTP   HT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es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UD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etwo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nt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P           ICM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OSPF    EIGRP BGP        R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SRP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HCP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Li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Flow or Network Access lay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R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hysic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OSI 7 LAYER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en Systems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tandard description or “reference model” for how messages should be transmitted between any two points in a telecommunicat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y two computers can communicate when connected regardless of underlying archite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OSI 7 Layer Mod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2952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362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9810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tion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666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ss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429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9112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4952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a Link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5715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al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7524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4382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3886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648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410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6680" y="1371600"/>
            <a:ext cx="2806560" cy="2437920"/>
            <a:chOff x="1066680" y="1371600"/>
            <a:chExt cx="2806560" cy="2437920"/>
          </a:xfrm>
        </p:grpSpPr>
        <p:sp>
          <p:nvSpPr>
            <p:cNvPr id="114" name=""/>
            <p:cNvSpPr/>
            <p:nvPr/>
          </p:nvSpPr>
          <p:spPr>
            <a:xfrm>
              <a:off x="3543120" y="1371600"/>
              <a:ext cx="330120" cy="2437920"/>
            </a:xfrm>
            <a:custGeom>
              <a:avLst/>
              <a:gdLst>
                <a:gd name="textAreaLeft" fmla="*/ 210960 w 330120"/>
                <a:gd name="textAreaRight" fmla="*/ 330480 w 330120"/>
                <a:gd name="textAreaTop" fmla="*/ 63360 h 2437920"/>
                <a:gd name="textAreaBottom" fmla="*/ 237456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6680" y="1795680"/>
              <a:ext cx="232848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r services, application, activ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14400" y="4267080"/>
            <a:ext cx="2971440" cy="1752840"/>
            <a:chOff x="914400" y="4267080"/>
            <a:chExt cx="2971440" cy="1752840"/>
          </a:xfrm>
        </p:grpSpPr>
        <p:sp>
          <p:nvSpPr>
            <p:cNvPr id="117" name=""/>
            <p:cNvSpPr/>
            <p:nvPr/>
          </p:nvSpPr>
          <p:spPr>
            <a:xfrm>
              <a:off x="3537000" y="4267080"/>
              <a:ext cx="348840" cy="1752840"/>
            </a:xfrm>
            <a:custGeom>
              <a:avLst/>
              <a:gdLst>
                <a:gd name="textAreaLeft" fmla="*/ 222840 w 348840"/>
                <a:gd name="textAreaRight" fmla="*/ 349200 w 3488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4419720"/>
              <a:ext cx="2466000" cy="155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 data transmission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ommunications sub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OSI SEVEN LAYER MODEL</a:t>
            </a:r>
            <a:br>
              <a:rPr sz="24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4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from computer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3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through ho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parate specific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PPLICATION LAYER 7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s with applications for communication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identity &amp; availability of communications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sufficient resources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the communication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on between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SENTATION LAYER 6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s data to the user in understandable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conversion functions for application lay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representation – graphic 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 representation – text / ASC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cry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SSION LAYER 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connections between mach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whether all data transmitted / rece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logical connection for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s data received – retransmits if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nects on premature 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s logical connection on com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ANSPORT LAYER 4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ides upon network to use depending on data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ow control – enough space to send/receive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plexing – combines messages to same conn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cketing – breaks larger into smaller pie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ewalls, Security &amp; Priorit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 LAYER 3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and addressing functions – correct dest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eives incoming packet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P – 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– decides what route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warding – sends on packets to other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communication subnet – layers 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12-16T14:05:01Z</dcterms:modified>
  <cp:revision>82</cp:revision>
  <dc:subject/>
  <dc:title>AVCE – UNIT 14 Project Management</dc:title>
</cp:coreProperties>
</file>