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B394-EC0C-43DD-8D90-3843126D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BDF2-D092-46D9-9520-0BA3650A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1758-EB4B-47C8-AB60-646B3359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375F-8714-4215-8159-7E578581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5F0A-D431-48BA-85F4-E93C37F5E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E66F-28B9-4FC8-B331-AAE51D8F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44CE-45AB-4D83-9E02-C8B2B64B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A064-E9A0-44C7-A839-25D2DFC5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7501-0098-40E5-B4B4-170A4AAD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0EAC-07C3-4FF3-A6AE-1C9F0E78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CB27-CDFF-44D6-BBBE-C177AA8D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6231-EB7B-40A5-BBC8-4FBC8753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E761-B30A-4AD0-8206-A0C20649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4D5E-41DE-4099-8D4C-F0A66563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716D-CDCD-458F-8A7F-427D7E29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3A3E-C45B-4C3B-A364-CEBFCA382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933D-F6A5-4CFE-B774-46B7D1BD6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E55E-D6FC-4C01-85C1-075931AC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2C2C-7F79-4E88-9B00-F6EE15FF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4F5B-854B-4463-A074-695EC38C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A604-789A-4002-9124-0017DDBB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B92B-E93D-4570-88A8-7ED336B4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35D1-1A2F-40AF-9D7E-B9421616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FCB0-3AA5-46F1-ABFD-B7A3C6C2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CA3F-35E1-4A85-B69D-918671A0B8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8879-B96E-4CCF-98D0-4EEF0EAE48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avid.bell@castlecollege.ac.uk" TargetMode="External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TEC NAT – UNIT 27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TWORKING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SI MODEL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44197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358128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 Leader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e B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4568"/>
                </a:solidFill>
                <a:uFillTx/>
                <a:latin typeface="Arial"/>
                <a:hlinkClick r:id="rId1"/>
              </a:rPr>
              <a:t>david.bell@castlecollege.ac.u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ATA LINK LAYER 2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ganisation of data bits into frame 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C Addresses (NICs) – identify de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ICs, Switches, WAN Technolog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beginning and end of the data fr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ddress of the se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ddress of the rece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of the data fr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HYSICAL LAYER 1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mits / receives data bits as electrical pul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s physical link between communicating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s network top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mission media – cabling / broadcasting / wirel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ms – encoding binary bit of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ical or optical (fibre optic) signa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CP / IP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ic communication protocol of the 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MISSION CONTROL PROTOC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s assembly of messages / files into smaller packets. Reassembles packets when received     (OSI layer 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 PROTOC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dles the address part of the pac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sures reaches correct destination (OSI layer 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CP / IP (4 Layer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68944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CP / IP Protoc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84360" y="1413000"/>
          <a:ext cx="7772400" cy="44798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OSI LAY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TCP LAY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PROTOCO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Applic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Applic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FT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       Telnet     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HTT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POP3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SMT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     TFTP   HTTP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Present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Sess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DN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Trans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Trans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TC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UD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Networ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Interne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IP           ICM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      OSPF    EIGRP BGP        RI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HSRP   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DHCP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Data Lin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Data Flow or Network Access lay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A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RA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Physic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OSI 7 LAYER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pen Systems Interconn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standard description or “reference model” for how messages should be transmitted between any two points in a telecommunication net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ny two computers can communicate when connected regardless of underlying architectu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90720" y="45720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OSI 7 Layer Mode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1100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29528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lication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23623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198108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sentation lay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266688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ssion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67080" y="342900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nsport lay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419112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twork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495288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ta Link lay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571500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ysical lay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17524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24382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5880" y="388620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4648320"/>
            <a:ext cx="0" cy="3045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54100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066680" y="1371600"/>
            <a:ext cx="2806560" cy="2437920"/>
            <a:chOff x="1066680" y="1371600"/>
            <a:chExt cx="2806560" cy="2437920"/>
          </a:xfrm>
        </p:grpSpPr>
        <p:sp>
          <p:nvSpPr>
            <p:cNvPr id="114" name=""/>
            <p:cNvSpPr/>
            <p:nvPr/>
          </p:nvSpPr>
          <p:spPr>
            <a:xfrm>
              <a:off x="3543120" y="1371600"/>
              <a:ext cx="330120" cy="2437920"/>
            </a:xfrm>
            <a:custGeom>
              <a:avLst/>
              <a:gdLst>
                <a:gd name="textAreaLeft" fmla="*/ 210960 w 330120"/>
                <a:gd name="textAreaRight" fmla="*/ 330480 w 330120"/>
                <a:gd name="textAreaTop" fmla="*/ 63360 h 2437920"/>
                <a:gd name="textAreaBottom" fmla="*/ 2374560 h 243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66680" y="1795680"/>
              <a:ext cx="2328480" cy="119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ser services, application, activit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14400" y="4267080"/>
            <a:ext cx="2971440" cy="1752840"/>
            <a:chOff x="914400" y="4267080"/>
            <a:chExt cx="2971440" cy="1752840"/>
          </a:xfrm>
        </p:grpSpPr>
        <p:sp>
          <p:nvSpPr>
            <p:cNvPr id="117" name=""/>
            <p:cNvSpPr/>
            <p:nvPr/>
          </p:nvSpPr>
          <p:spPr>
            <a:xfrm>
              <a:off x="3537000" y="4267080"/>
              <a:ext cx="348840" cy="1752840"/>
            </a:xfrm>
            <a:custGeom>
              <a:avLst/>
              <a:gdLst>
                <a:gd name="textAreaLeft" fmla="*/ 222840 w 348840"/>
                <a:gd name="textAreaRight" fmla="*/ 349200 w 34884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4419720"/>
              <a:ext cx="2466000" cy="1557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ctual data transmission</a:t>
              </a:r>
              <a:br>
                <a:rPr sz="2400"/>
              </a:b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communications sub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OSI SEVEN LAYER MODEL</a:t>
            </a:r>
            <a:br>
              <a:rPr sz="24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PER 4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ssage passing – from computer 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3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ssage passing – through hos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to an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parate specific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PPLICATION LAYER 7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acts with applications for communication purpo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s identity &amp; availability of communications partn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s sufficient resources avail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s the communication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peration between 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ESENTATION LAYER 6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s data to the user in understandable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conversion functions for application layer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representation – graphic forma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acter representation – text / ASC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compress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encry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ESSION LAYER 5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s connections between mach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s whether all data transmitted / recei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es logical connection for commun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s data received – retransmits if necess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nnects on premature term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eases logical connection on comple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RANSPORT LAYER 4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cides upon network to use depending on data 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ow control – enough space to send/receive mess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ultiplexing – combines messages to same conn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cketing – breaks larger into smaller pie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recov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ewalls, Security &amp; Priorit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TWORK LAYER 3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outing and addressing functions – correct dest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eives incoming packets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P – IP addr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outing – decides what route to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warding – sends on packets to other h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rols communication subnet – layers 1-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2:25:37Z</dcterms:created>
  <dc:creator>IT Department</dc:creator>
  <dc:description/>
  <dc:language>en-US</dc:language>
  <cp:lastModifiedBy>Administrator</cp:lastModifiedBy>
  <dcterms:modified xsi:type="dcterms:W3CDTF">2008-12-16T14:05:01Z</dcterms:modified>
  <cp:revision>82</cp:revision>
  <dc:subject/>
  <dc:title>AVCE – UNIT 14 Project Management</dc:title>
</cp:coreProperties>
</file>