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111-0118-4D60-8943-22485D71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C88-06CD-4DDE-9941-383CB15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ABB-2011-4A63-8B95-280346CD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B2A-9AD3-4749-88AB-D6BC40D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A0DE-EA94-4728-BE22-AD8E4033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17B1-2A34-4D7D-AA0F-FC78974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7899-9988-4C92-B21D-E4877DE5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BACB-F132-48FA-8621-DC520C12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7D82-E4B4-4552-A3AC-C72C333A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396-ECF0-492E-8C88-661E7C59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CAF-0544-4768-ABAE-910FADF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3A9-5245-447B-870C-3F32BA6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5FF-1598-4E6D-89A7-4358CB3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AA62-41B2-4E1A-9BC2-7E2956C7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59AE-BAAB-4FF6-A2BA-8228AC08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97C9-A2D7-4315-BECE-604360AA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BFCC-0E61-4134-B5FD-253AB14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96B-434F-4596-95B4-30E15A12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D76-CB55-41E4-8FF7-27587EA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683-DDBC-462E-AA9B-26B199DE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919-DBA6-40BF-96D3-88C56C72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BA2-84AD-4D46-B32C-F4245EB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124-857A-4404-B16A-F3A075DD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1D7-056B-49BD-8EFE-511D6E9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20BF-F441-44EE-8C0E-729867FFB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7352-F8B8-4914-B3EF-27A6CAC97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bell@castlecollege.ac.uk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TEC NAT – UNIT 27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 Addresses (NICs) – identify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Cs, Switches, WA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media – cabling / broadcasting / wir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ms – encoding binary bit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(4 Laye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413000"/>
          <a:ext cx="7772400" cy="4479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OSI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OTOC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 Telnet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OP3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M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TFTP   HT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UD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P           ICM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OSPF    EIGRP BGP        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SRP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HC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Flow or Network Access lay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R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nk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14" name="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17" name="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br>
              <a:rPr sz="24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betwee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walls, Security &amp; Prior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12-16T14:05:01Z</dcterms:modified>
  <cp:revision>82</cp:revision>
  <dc:subject/>
  <dc:title>AVCE – UNIT 14 Project Management</dc:title>
</cp:coreProperties>
</file>