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B6D-25DA-4C9E-ABAF-D3B9EC45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E91-91A4-4782-B677-686732B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FBA-BE6E-47F9-B028-5086BFA9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1DC-90AC-4E99-B342-296156E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B05D-2430-4489-943A-57F58FF7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63C0-452E-4D9D-BD89-E1B409CC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E275-C061-4E4F-A176-6BCC4DC7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1A3-44DA-41FB-9099-81D68B1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705-E7FD-48CE-8CF1-B21269B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ECF-6890-4B33-BFBC-4F152DC1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26B-7C92-44B6-8903-AAB1F702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578-9789-4AA5-801F-57FA13F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FEC-31CB-4F24-A693-714B883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084D-C801-462B-B3C8-0AA6E9A2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81F5-2676-47B2-90B8-48DC4EE2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82B7-EE54-4953-9D7F-7E65E89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9EC2-A8C3-4FF1-9CF8-DF9E8BB0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7AB-11C9-47BD-8F46-E699CF5C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E2C-D24C-410D-B151-5AC9A237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38B-DF3C-4897-A365-F0E2498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AB4-7C3C-437F-BBE9-A5849975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1F9-445B-44C1-A78A-8AA72C4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5BD-60A6-41A3-AE9E-5A520C6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E52-F543-46B1-B078-D8A647A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058A-F2E4-425D-8669-153F7B095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7F2C-7556-419C-A347-414E0FE79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bell@castlecollege.ac.uk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TEC NAT – UNIT 27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 Addresses (NICs) – identify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Cs, Switches, WA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media – cabling / broadcasting / wir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ms – encoding binary bit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(4 Laye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413000"/>
          <a:ext cx="7772400" cy="4479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OSI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OTOC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 Telnet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OP3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M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TFTP   HT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UD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P           ICM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OSPF    EIGRP BGP        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SRP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HC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Flow or Network Access lay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R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nk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14" name="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17" name="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br>
              <a:rPr sz="24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betwee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walls, Security &amp; Prior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12-16T14:05:01Z</dcterms:modified>
  <cp:revision>82</cp:revision>
  <dc:subject/>
  <dc:title>AVCE – UNIT 14 Project Management</dc:title>
</cp:coreProperties>
</file>