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6DD3-4925-4C43-888C-ECF1C92BE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6A0A-F5F0-4455-9106-8D1A8E74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49AB-913E-41FA-83AF-2E47EC81D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6D43-78C4-4B9A-A402-F9F121077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DDBE-E26D-4DBC-ABB7-E4FAFC399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EDD0-D6CB-4472-A202-0556CAEC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1504-747B-4928-98EA-89C558E0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87E8-8783-4AA4-9ECE-37F97256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CF9F-0ACC-47EF-AB67-62373D9D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5233-FDB4-441E-BD5D-2CCCAA54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B292-458C-462C-AB29-871CAA9D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AE81-D295-40B5-B2E6-3BD68D04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0115-51AD-48FA-8315-3DACAC39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58AB-725E-4EA5-A601-52022222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4DED-53CC-4047-AD82-8B89D0B6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C8FC-38C7-4DBA-8617-8DE24B679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26DC-5393-4B41-B758-5CA6C05C1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3F20-1AEB-4DDB-9120-84EB5F34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8FB0-328F-4E62-A838-00FD03DD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CDB0-9050-41F7-838A-A826AEA3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0492-F82F-49EF-9451-463811A0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9A46-9A9B-4BAE-994F-46080C64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98E6-B16F-4355-A913-867B0298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E40C-E482-4DD4-869D-2EE3DBB3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47C5-617D-4380-96CB-41CE5D9BDA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BB3F-EDA9-4CC0-97C9-194E73991F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avid.bell@castlecollege.ac.uk" TargetMode="External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TEC NAT – UNIT 27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ETWORKING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SI MODEL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441972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358128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 Leader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ve B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4568"/>
                </a:solidFill>
                <a:uFillTx/>
                <a:latin typeface="Arial"/>
                <a:hlinkClick r:id="rId1"/>
              </a:rPr>
              <a:t>david.bell@castlecollege.ac.u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ATA LINK LAYER 2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ganisation of data bits into frame stru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C Addresses (NICs) – identify de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ICs, Switches, WAN Technolog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beginning and end of the data fr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ddress of the se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ddress of the rece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of the data fr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HYSICAL LAYER 1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mits / receives data bits as electrical pul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s physical link between communicating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bes network top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mission media – cabling / broadcasting / wirel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ms – encoding binary bit of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ical or optical (fibre optic) signa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CP / IP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ic communication protocol of the 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MISSION CONTROL PROTOC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s assembly of messages / files into smaller packets. Reassembles packets when received     (OSI layer 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ET PROTOC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ndles the address part of the pac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sures reaches correct destination (OSI layer 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CP / IP (4 Layer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68944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CP / IP Protoc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84360" y="1413000"/>
          <a:ext cx="7772400" cy="44798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OSI LAY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TCP LAY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PROTOCO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Applic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Applic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FTP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       Telnet     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HTT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POP3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SMTP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     TFTP   HTTP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Present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Sess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DN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Transpo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Transpo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TC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UD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Networ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Interne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IP           ICMP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      OSPF    EIGRP BGP        RI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HSRP   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DHCP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Data Lin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Data Flow or Network Access lay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A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RAR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Physic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OSI 7 LAYER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pen Systems Interconn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standard description or “reference model” for how messages should be transmitted between any two points in a telecommunication net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ny two computers can communicate when connected regardless of underlying architectu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90720" y="45720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OSI 7 Layer Mode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1100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29528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lication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91120" y="23623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67080" y="198108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sentation lay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266688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ssion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67080" y="342900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nsport lay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419112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twork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67080" y="495288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ata Link lay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5715000"/>
            <a:ext cx="35816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hysical lay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5880" y="175248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243828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5880" y="388620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4648320"/>
            <a:ext cx="0" cy="3045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5880" y="541008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066680" y="1371600"/>
            <a:ext cx="2806560" cy="2437920"/>
            <a:chOff x="1066680" y="1371600"/>
            <a:chExt cx="2806560" cy="2437920"/>
          </a:xfrm>
        </p:grpSpPr>
        <p:sp>
          <p:nvSpPr>
            <p:cNvPr id="114" name=""/>
            <p:cNvSpPr/>
            <p:nvPr/>
          </p:nvSpPr>
          <p:spPr>
            <a:xfrm>
              <a:off x="3543120" y="1371600"/>
              <a:ext cx="330120" cy="2437920"/>
            </a:xfrm>
            <a:custGeom>
              <a:avLst/>
              <a:gdLst>
                <a:gd name="textAreaLeft" fmla="*/ 210960 w 330120"/>
                <a:gd name="textAreaRight" fmla="*/ 330480 w 330120"/>
                <a:gd name="textAreaTop" fmla="*/ 63360 h 2437920"/>
                <a:gd name="textAreaBottom" fmla="*/ 2374560 h 243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66680" y="1795680"/>
              <a:ext cx="2328480" cy="119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ser services, application, activit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14400" y="4267080"/>
            <a:ext cx="2971440" cy="1752840"/>
            <a:chOff x="914400" y="4267080"/>
            <a:chExt cx="2971440" cy="1752840"/>
          </a:xfrm>
        </p:grpSpPr>
        <p:sp>
          <p:nvSpPr>
            <p:cNvPr id="117" name=""/>
            <p:cNvSpPr/>
            <p:nvPr/>
          </p:nvSpPr>
          <p:spPr>
            <a:xfrm>
              <a:off x="3537000" y="4267080"/>
              <a:ext cx="348840" cy="1752840"/>
            </a:xfrm>
            <a:custGeom>
              <a:avLst/>
              <a:gdLst>
                <a:gd name="textAreaLeft" fmla="*/ 222840 w 348840"/>
                <a:gd name="textAreaRight" fmla="*/ 349200 w 34884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4419720"/>
              <a:ext cx="2466000" cy="1557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ctual data transmission</a:t>
              </a:r>
              <a:br>
                <a:rPr sz="2400"/>
              </a:b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communications sub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OSI SEVEN LAYER MODEL</a:t>
            </a:r>
            <a:br>
              <a:rPr sz="24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PER 4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ssage passing – from computer 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 3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ssage passing – through hos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 to an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parate specific 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PPLICATION LAYER 7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acts with applications for communication purpo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s identity &amp; availability of communications partn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s sufficient resources avail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s the communication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peration between 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ESENTATION LAYER 6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s data to the user in understandable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conversion functions for application layer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representation – graphic forma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acter representation – text / ASC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compress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encry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ESSION LAYER 5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s connections between mach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s whether all data transmitted / recei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es logical connection for commun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cks data received – retransmits if necess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nnects on premature termin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eases logical connection on comple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RANSPORT LAYER 4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cides upon network to use depending on data 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ow control – enough space to send/receive mess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ultiplexing – combines messages to same conn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cketing – breaks larger into smaller pie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recov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rewalls, Security &amp; Prioritis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ETWORK LAYER 3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outing and addressing functions – correct dest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ceives incoming packets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P – IP addre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outing – decides what route to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warding – sends on packets to other ho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trols communication subnet – layers 1-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27-networking</a:t>
            </a:r>
          </a:p>
        </p:txBody>
      </p:sp>
    </p:spTree>
  </p:cSld>
  <p:transition>
    <p:zoom dir="in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12:25:37Z</dcterms:created>
  <dc:creator>IT Department</dc:creator>
  <dc:description/>
  <dc:language>en-US</dc:language>
  <cp:lastModifiedBy>Administrator</cp:lastModifiedBy>
  <dcterms:modified xsi:type="dcterms:W3CDTF">2008-12-16T14:05:01Z</dcterms:modified>
  <cp:revision>82</cp:revision>
  <dc:subject/>
  <dc:title>AVCE – UNIT 14 Project Management</dc:title>
</cp:coreProperties>
</file>