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0B5-CD3D-496A-BB5C-CD56B4720F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tion – is the method of checking data by making the user enter it in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– is the process of checking the data entered is reasonable and in the correc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layout, tab order of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put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 layout or repor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 of 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ED8-8A06-430E-94FA-D040FAA3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AF0-27A5-457D-AB9E-D53E4ECE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1DF-4A95-44F6-B749-D7F13176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21C-F3D1-4BFE-9A73-A7EEC696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F0E0-01C2-4F9B-9ED0-4E4B4114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67A5-883F-448E-A6CB-DE805B60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5D79-64E9-42EE-99B2-B5DE850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6773-F044-419F-9F42-0E6FCDCF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3543-4A7E-4E9D-B1EC-84A0F136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7C72-35D2-4FB0-9A48-0981ABC2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CA1C-9A84-4A6C-BE03-0D8F20A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2FC-FF7B-4EB9-8BFF-441482A9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5C57-AF68-42F1-B5C1-6ECE946E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5475-19C5-437B-A7AF-ADD2588A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C9DB-5394-4F60-9BEE-2BF5E5C9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2B42-9F78-4108-B630-E880F103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6E39-1361-4F7E-AD11-AA40B5AC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143-2CEE-4A57-A8F3-CFCF6E3C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2BD-31C4-4E28-B213-E5A6ED88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95A-094C-4ED0-B6A4-018C9F23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99C-DE64-4CB4-B309-D536F25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8C1-A933-43CA-A1B8-9B03A127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804-C31B-4E63-A2E8-86F4D43C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698-E70B-401E-834C-832E932A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1501-98B7-45E0-9FE8-18F0A18B44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145F-218F-4EB3-BA9C-604FCE8212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663-A894-4A95-B431-D1781359D2F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1BD-6762-4425-A32E-FAD8E5CF51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659640" y="2205000"/>
          <a:ext cx="1485720" cy="15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205000"/>
                    <a:ext cx="14857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516720" y="5229360"/>
          <a:ext cx="170028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229360"/>
                    <a:ext cx="17002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997-A89B-4378-B410-293A713FE2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700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pseudo code from the earlier example as a flowchart using Vis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using the add customer example from earl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4C3-F719-4C8B-90AB-84781AC614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DA3-2FED-4A5A-B920-5B06328FEB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B48-6732-443C-9F9A-690FBA464A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D27-24E1-4474-AD14-56ABEDB486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072-EF93-40A6-9697-AA09E92752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ge focuses on designing solutions that meet the requirements that were discovered in the analysis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keys parts to design, which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nd output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this is the processes that transform the input into the required outp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CE8-4857-4B16-8B5B-F78FF4CD7C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method/s used by the user to capture data. Example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-code r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tic str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entry (using keyboard and mo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ny mo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ata is enter manually validation and verification techniques should be u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G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85E-690B-4E69-85A7-CA7A32E32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designed using prototypes screens. These prototypes will not focus on the functionality just appea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-user will evaluate the prototypes and make requests. These requests will get implemented and the end-user will be asked for their opin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expect to see on a scr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258-C5F8-4C73-9E23-91D29574E9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out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uld consist of screen outputs, reports or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s of outputs can you think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CD1-2908-465E-BD07-3CB4EE1A55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512-15C6-4FC5-A9DF-841B0D239B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73F-D41E-4DB5-95E4-D8AC014815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fault to fault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faul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faul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fault with unique faul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faul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fault has already been log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53AC-87B0-4F65-AF2A-B9C150674D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30:02Z</dcterms:modified>
  <cp:revision>29</cp:revision>
  <dc:subject/>
  <dc:title>Computer Platforms Week 1</dc:title>
</cp:coreProperties>
</file>