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ACE6-6C33-458B-A62C-8D18EC2BCF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cation – is the method of checking data by making the user enter it in 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ion – is the process of checking the data entered is reasonable and in the correc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 design would normally consists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itle for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 layout, tab order of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put design would normally consists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title for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 layout or report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 of data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D911-C58B-4362-B17A-F689D49F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45CC-F307-4E09-92CA-8D9D9D09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74E4-97F3-4175-9815-9126B430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A13B-A63F-4398-A004-8CA9F54E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65CC-56CE-4FA8-AC14-EB74A529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DCE4-A129-430D-A93F-1FEA6E5E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87B9-E827-4AA4-B473-C906AD25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0871-83A8-4D14-B554-18619E05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1D19-BCA8-462F-8647-68418A9E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1747-E910-495A-974E-8F45E25D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371B-E29E-4EA4-AB74-E2851F59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1698-6ECC-4604-80BB-6E5728D5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CC40-CF21-4CC2-89E8-5C5CB667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7D08-C54B-4CAB-8484-6E7742C4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B6F4-DCD9-4990-A88B-54A4BA2B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4E28-4E1B-4F08-97D7-30089B9F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15E5-1E8C-4E3D-82BD-97EAC087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F222-90D0-4098-B5FF-8301046D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D65F-37FC-4CC9-8E78-16D9990D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46A8-1FC0-4CED-AC8A-B0AAF95C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49EE-0F6B-432E-9069-D8CFBF58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D633-FB8A-4824-9FDA-7CE42BE0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E84F-6F80-4FF0-A6A1-5DFC2ABF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D44-3D9A-4E7D-8495-358BD7C1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57FD-D9DF-443E-88D7-F0510F7D2B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5DDA-3C6A-42AE-8589-AD9969B292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 Systems Analysis and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SADM – De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5DDA-62EC-458C-8B61-DEAA1C8CEC8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Flow ch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diagrams used to show how processes link in a systematic (logical) 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graphically represents decisions, processes and where the overall processes starts and e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F34A-915F-4575-9C49-CE0CE8E1FD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0755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– Flow ch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als or circles are used to represent where the main process starts and 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s are represented as a diam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ngles are for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ctive verbs i.e. send, calcul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877080" y="4221000"/>
          <a:ext cx="931680" cy="57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7080" y="4221000"/>
                    <a:ext cx="9316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6659640" y="2205000"/>
          <a:ext cx="1485720" cy="158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59640" y="2205000"/>
                    <a:ext cx="148572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6516720" y="5229360"/>
          <a:ext cx="1700280" cy="103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16720" y="5229360"/>
                    <a:ext cx="170028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628B-DE50-4AAF-BEBC-3E6671B825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wchart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170028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ill attempt to model the pseudo code from the earlier example as a flowchart using Vis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292428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e you have helped your tutor complete the earlier example you need to attempt and create one yourself using the add customer example from earli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8662-E6DD-431D-BFE1-E45709C983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0755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s 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ful when there are a lot of different options to choose from and you want to identify what happens in each circums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when a flow chart would be too complicated to dra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8B84-98FA-4E71-BB48-E653E60154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cisions t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424160" y="1743120"/>
          <a:ext cx="6172200" cy="2603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isting Custom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Mess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Customer to data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57DD-1AD7-404A-A52F-2758EBCB66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ed further knowledge into the six stages of the development process (discuss the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ge – Desig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ed input, output and process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ed an insight into ,pseudo code flowcharts and decision 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134C-8B5C-44D5-AE66-6DA49AE290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further knowledge into the six stages of the development process (discuss the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ge – Desig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input, output and process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an insight into ,pseudo code flowcharts and decision tab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64AF-EA62-423B-8A70-3556973D22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tage focuses on designing solutions that meet the requirements that were discovered in the analysis s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a number of keys parts to design, which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and output specif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descriptors (this is the processes that transform the input into the required outpu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47E4-00CA-42AD-9B96-F9FE54C248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input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method/s used by the user to capture data. Examples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-code rea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tic str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entry (using keyboard and mo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ny mo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data is enter manually validation and verification techniques should be us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GI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44A3-907E-4209-B589-14651E95F4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Layouts – input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designed using prototypes screens. These prototypes will not focus on the functionality just appear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-user will evaluate the prototypes and make requests. These requests will get implemented and the end-user will be asked for their opin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ould expect to see on a scre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45A6-F3ED-4D5F-AFA3-8CAF48D704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Layouts – output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would consist of screen outputs, reports or f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ypes of outputs can you think of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C428-3892-4D33-A052-924EEF0091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Process descrip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es would have been identified in the investigation s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important to define each process clearly to ensure that there is no unnecessary code implemented and the process does what was re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71CA-04F9-4E67-B4B7-AB73FF51D0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Process descrip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llowing methods are used to create process specif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eudo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w ch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4441-C6EE-4E69-AA16-B0946A055B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- Pseudo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d English - describes the process in English (as appose to programming cod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“Add fault to fault databas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Open fault datab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heck if fault already exists, if it doesn’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reate new fault recor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Assign fault with unique fault nu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Request the user to input fault detai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Store fault detai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if fault already exi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Display message to let the user know that the fault has already been logg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lose fault datab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try and write some pseudo code to add a customer record to a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2D00-3B24-42FE-B87A-F5AC8F44A1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8-10-06T13:30:02Z</dcterms:modified>
  <cp:revision>29</cp:revision>
  <dc:subject/>
  <dc:title>Computer Platforms Week 1</dc:title>
</cp:coreProperties>
</file>