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782-F3D6-4D2B-A994-48E2ECD7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952-EEBD-4B67-AB04-C1395F9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AC3-7CFE-4182-ABB1-13A61553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33A-27ED-4F1F-85D6-0880BEBD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D0F1-3A64-4399-A3DF-98F52857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417E-9B47-4FB9-96B0-38EA6E30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8147-7E17-4571-AF29-D0E939E3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406D-A714-4681-8E7C-E38C9D3A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6D27-A118-4307-9B0D-AB3C1401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5FA6-9690-4038-9FC6-EA949D29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948-DC56-4A18-8C98-56B2FF46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837-833C-461D-8096-AAD4377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761-F87B-4EEA-B46D-8D21D31D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31BF-23E8-4379-9C45-50F8108A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8653-8DAA-415A-B1A9-37EF5EE8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8D0-F9C1-4D16-B4E1-99C816EB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5519-681E-489C-8EC5-D4AF53B7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111-B520-41AC-91EF-EDA0A3C5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A62-F392-458D-950B-2414F2AD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BFF-8315-4E63-B9A1-314C6B62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C58-0C75-4F0E-B8A6-62700468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581-E8DB-4E2D-8D6B-AD63C9E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43F-F197-4A76-A6F6-F46D9F55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A42-22FD-4083-BC0B-4CBD765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8BFA-04D7-44B7-B4FB-B67A7710EF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0C2-9D81-42E2-9AA0-2F27AB9BF3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nciples of Software Design and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On Choosing a Langu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106F-F296-4F05-BCE1-88E8E4F9436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ed further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EA9-CAA0-4B5E-A2FA-766C961E7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discussion into choosing a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63B3-ECD2-4989-8D7B-ECDC0A662F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osing a langu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 number of factors that must be considered when choosing a langu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8F6-206C-4FED-BB1B-23105FEEE0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sational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panies have an organisational policy as to what computers and software can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 they may only use Microsoft products therefore restricted to MS programming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324-6F3A-49F0-926C-EB6EE7E90E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tability in terms of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questions of suitability that need to be ask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latform does the program need to work on i.e. hardware / operat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e programming environment have the necessary features to carryout the tas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76C-DD28-4E10-801E-3857D951A7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ility of skilled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ers that are employed within the company may be only skilled within a particular language therefore this language maybe the natural cho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267-260A-425D-8E96-E79B2A470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ming languages have features that are built in to it to make programs more reliable i.e. debug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92F-C138-4891-BAF9-96C2A27FA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velopment and maintenance 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st of developing and maintaining programs is an important consideration when embarking on a software development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F22-AAAC-44AC-952B-00BD78BB58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and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anguages expand or scale better than others and have features which support large systems, for example, OOP – (Manages complexities by using objects) or PHP (Hypertext Pre-processor) to enable developers to create dynamic content that interacts with databases to support a very large number of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tec National - Principles of Software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D95-5BE6-4613-B54A-045EF323B0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brendan.coulson</cp:lastModifiedBy>
  <dcterms:modified xsi:type="dcterms:W3CDTF">2008-10-16T12:57:30Z</dcterms:modified>
  <cp:revision>38</cp:revision>
  <dc:subject/>
  <dc:title>Computer Platforms Week 1</dc:title>
</cp:coreProperties>
</file>