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7D8C-F734-4C43-A13B-55575DBE1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8990-7EC7-4051-B46C-3662557B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9C91-7FF2-4119-832D-7E0FA6755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3A45-B6D4-4C86-AC1A-BC59C6516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1C74-5CFD-496E-BF6E-5545BFF0E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225B-D975-47A2-A99E-9AE01D5B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8968-AAEC-4F73-ADB8-DE17E400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F58B3-A9B5-49F8-B014-27132D68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7E5E-E794-4420-A151-9E613125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FEB4-E384-4915-8C08-2545FE81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DEFA-4822-4453-865A-998E092F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976C-EE62-41BF-AEB3-6F57FFC5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2144-2F1B-41C6-BD85-53AF037C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C03B-5657-47BA-B63A-091E6987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3FC1-C189-49E0-B9E3-82A40D84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A13B-6E3E-4298-AC1E-6729EDD7A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E2F8-00BD-4D7C-8073-3816D530C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D8E7-7764-4ADA-987C-FB4BE9F7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7A3B-B6ED-45D9-9DC3-C84A863B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4E57-5223-4A2D-A783-92414725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F6CD-0B98-4078-AABF-D70919C6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58DC-4FC0-4410-966B-8FB1D852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0687-D97E-46EA-B209-AFCBBC48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D3E4-F25C-4BB2-829A-F5B6D4FA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5CAB-EAD2-4C6C-A95D-7253516FE3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CF82-BD1F-46DB-9028-6CC5BB28DB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TEC NATIONAL DIPLOM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n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A3F6-2E2D-4946-BF12-BA15769E193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how data is sto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able to use the binary system to represent ASCII charac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0BCB-B4A9-46A1-AD7B-2C5B2E3E0E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is data stor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ts and byt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mputer only understands the numbe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true or false, or whether a switch i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ll those 1s and 0s 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’ –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nary digi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made up of 8 bits) is enough computer memory to store a single character of data (e.g. the letter F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lf a byte is known as a nibble (made up of 4 bi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CI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de, for instance, the letter F is 70 and has a bit pattern of 010001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317C-CC01-4F82-B2A1-E189AB9D63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is data stored? Co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84360" y="1268280"/>
          <a:ext cx="2693880" cy="540720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219240"/>
                <a:gridCol w="615960"/>
                <a:gridCol w="639720"/>
              </a:tblGrid>
              <a:tr h="64260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CII for Capital Lett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3778200" y="1596960"/>
            <a:ext cx="46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rican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ndard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de for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formation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terchange (ask-ee) is a code which represents English characters as numbers. Each letter is assigned a number. For example, A = 65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4149720"/>
            <a:ext cx="467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computers use ASCII codes. This makes it possible to transfer data from one computer to another by changing the ASCII code into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nary patter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23AD-BED8-45B5-983E-C3B717BA7A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is data stored? Co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5280" y="620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1052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we write numbers in the decimal system, we write them in columns. Each column is ten times bigger than the one before (right to lef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95280" y="2276640"/>
          <a:ext cx="8516880" cy="1266840"/>
        </p:xfrm>
        <a:graphic>
          <a:graphicData uri="http://schemas.openxmlformats.org/drawingml/2006/table">
            <a:tbl>
              <a:tblPr/>
              <a:tblGrid>
                <a:gridCol w="1297080"/>
                <a:gridCol w="1150920"/>
                <a:gridCol w="1352520"/>
                <a:gridCol w="1243080"/>
                <a:gridCol w="919080"/>
                <a:gridCol w="1157400"/>
                <a:gridCol w="715680"/>
                <a:gridCol w="681120"/>
              </a:tblGrid>
              <a:tr h="80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s of mill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ll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395280" y="364500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1000 plus 10 = 1010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47840" y="4221000"/>
          <a:ext cx="8516880" cy="1216080"/>
        </p:xfrm>
        <a:graphic>
          <a:graphicData uri="http://schemas.openxmlformats.org/drawingml/2006/table">
            <a:tbl>
              <a:tblPr/>
              <a:tblGrid>
                <a:gridCol w="1415880"/>
                <a:gridCol w="1208160"/>
                <a:gridCol w="1176120"/>
                <a:gridCol w="1243080"/>
                <a:gridCol w="919440"/>
                <a:gridCol w="1157040"/>
                <a:gridCol w="716040"/>
                <a:gridCol w="681120"/>
              </a:tblGrid>
              <a:tr h="75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s of mill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ll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324000" y="558972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0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ould be 10000 plus 1000 plus 10 = 110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8010-8511-4657-B00E-53BA589604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is data stored? Co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6206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nary syst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everything is based on 2s, not 10s, so each column is twice as big as the one befo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24000" y="1989000"/>
          <a:ext cx="8496000" cy="1174680"/>
        </p:xfrm>
        <a:graphic>
          <a:graphicData uri="http://schemas.openxmlformats.org/drawingml/2006/table">
            <a:tbl>
              <a:tblPr/>
              <a:tblGrid>
                <a:gridCol w="1412640"/>
                <a:gridCol w="1204920"/>
                <a:gridCol w="1173240"/>
                <a:gridCol w="1239840"/>
                <a:gridCol w="917640"/>
                <a:gridCol w="966600"/>
                <a:gridCol w="976320"/>
                <a:gridCol w="604800"/>
              </a:tblGrid>
              <a:tr h="71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324000" y="335772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binary is 8 plus 2 = 10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24000" y="4076640"/>
          <a:ext cx="8496000" cy="1180800"/>
        </p:xfrm>
        <a:graphic>
          <a:graphicData uri="http://schemas.openxmlformats.org/drawingml/2006/table">
            <a:tbl>
              <a:tblPr/>
              <a:tblGrid>
                <a:gridCol w="1412640"/>
                <a:gridCol w="1204920"/>
                <a:gridCol w="1173240"/>
                <a:gridCol w="1239840"/>
                <a:gridCol w="917640"/>
                <a:gridCol w="966600"/>
                <a:gridCol w="976320"/>
                <a:gridCol w="604800"/>
              </a:tblGrid>
              <a:tr h="72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363240" y="5564160"/>
            <a:ext cx="53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0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ould be 16 plus 8 plus 2 = 2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B515-D91F-40C1-830E-FDD766CDD2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u have ag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AAAE-2B59-4498-9B21-FCAC2A78C2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is data stored? Co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8920" y="89856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computer data is stored in binary for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8920" y="14130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not only includes text, but images, sounds and movies as w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8920" y="22766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re complex the data, the more memory is used to store it.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58920" y="3213000"/>
            <a:ext cx="3382920" cy="1911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2" name=""/>
          <p:cNvSpPr/>
          <p:nvPr/>
        </p:nvSpPr>
        <p:spPr>
          <a:xfrm>
            <a:off x="360720" y="5229360"/>
            <a:ext cx="350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does not take up a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ch memor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06680" y="556416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th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005440" y="3213000"/>
            <a:ext cx="3382920" cy="2003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67F2-FBCD-438C-B655-4E735AEEB8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discussed how data is sto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use the binary system to represent ASCII charac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BDAF-0EE5-40A3-8EB7-6834E2C40D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brendan.coulson</cp:lastModifiedBy>
  <dcterms:modified xsi:type="dcterms:W3CDTF">2010-03-09T12:02:09Z</dcterms:modified>
  <cp:revision>21</cp:revision>
  <dc:subject/>
  <dc:title>Computer Platforms Week 1</dc:title>
</cp:coreProperties>
</file>